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F41A-BD01-4BFC-89A2-B0011CE3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MR=Stepped Frequency Microwave Radiometers. They are onboard NOAA WP-3D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 to JMA mod is in Harper (WMPO pub) and also recent paper by Nakazaw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699-80C4-45CA-B9DF-965B1F4C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E83-8238-4D8E-A57C-0AE8BC47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8B9-30D8-41C2-87BC-9382F20E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575-FE48-44CB-8006-D396297A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4F7-B5D0-4E6E-8981-0013B8E8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3CE-0F99-4D9C-BF9F-7CFA169C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DE0-7DA4-45F4-BFB4-086C2E60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91E-766F-4E63-A081-B068E528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EF7-7759-4B6D-906B-CBE45B1A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850-B68D-4C83-A1EA-370F7720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E4F-DED3-48ED-BB08-D03265C7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ACA-3F4A-4C5C-8E83-857D1290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F265-5B8F-4443-90F6-378FCBC7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472" t="0" r="48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007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ssure-Wind Relationship for Super-Typhoon Jangmi (20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960000"/>
            <a:ext cx="914400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. Jin, Peter Black, and Shouping 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21040"/>
            <a:ext cx="35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0447 UTC 27 Sept 2008 TY Jangm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770" r="0" b="0"/>
          <a:stretch/>
        </p:blipFill>
        <p:spPr>
          <a:xfrm>
            <a:off x="0" y="1071720"/>
            <a:ext cx="5183280" cy="443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2440" y="1076400"/>
            <a:ext cx="1457280" cy="12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up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coup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MPS-TC Forecasts of Jang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44824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upled processes improve simulation of rapid intensification/decay cycle relative to ocean eddy pair and cold po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oth forecasts miss the rapid weakening prior to landf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rge uncertainty are associated with the wind-pressure relations in observ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86440" y="607680"/>
            <a:ext cx="3949560" cy="4933800"/>
            <a:chOff x="5086440" y="607680"/>
            <a:chExt cx="3949560" cy="4933800"/>
          </a:xfrm>
        </p:grpSpPr>
        <p:grpSp>
          <p:nvGrpSpPr>
            <p:cNvPr id="57" name=""/>
            <p:cNvGrpSpPr/>
            <p:nvPr/>
          </p:nvGrpSpPr>
          <p:grpSpPr>
            <a:xfrm>
              <a:off x="5086440" y="607680"/>
              <a:ext cx="3949560" cy="4933800"/>
              <a:chOff x="5086440" y="607680"/>
              <a:chExt cx="3949560" cy="493380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5086440" y="1022400"/>
              <a:ext cx="3949560" cy="2309040"/>
            </p:xfrm>
            <a:graphic>
              <a:graphicData uri="http://schemas.openxmlformats.org/presentationml/2006/ole">
                <p:oleObj progId="Excel.Sheet.12" r:id="rId2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086440" y="1022400"/>
                        <a:ext cx="3949560" cy="230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" name=""/>
              <p:cNvGraphicFramePr/>
              <p:nvPr/>
            </p:nvGraphicFramePr>
            <p:xfrm>
              <a:off x="5096160" y="3240000"/>
              <a:ext cx="3939480" cy="2301480"/>
            </p:xfrm>
            <a:graphic>
              <a:graphicData uri="http://schemas.openxmlformats.org/presentationml/2006/ole">
                <p:oleObj progId="Excel.Sheet.12" r:id="rId4" spid="">
                  <p:embed/>
                  <p:pic>
                    <p:nvPicPr>
                      <p:cNvPr id="61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096160" y="3240000"/>
                        <a:ext cx="3939480" cy="230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" name="Line 7"/>
              <p:cNvSpPr/>
              <p:nvPr/>
            </p:nvSpPr>
            <p:spPr>
              <a:xfrm flipV="1">
                <a:off x="7399440" y="1050480"/>
                <a:ext cx="0" cy="4018320"/>
              </a:xfrm>
              <a:prstGeom prst="line">
                <a:avLst/>
              </a:prstGeom>
              <a:ln cap="sq"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8"/>
              <p:cNvSpPr/>
              <p:nvPr/>
            </p:nvSpPr>
            <p:spPr>
              <a:xfrm rot="16200000">
                <a:off x="6425280" y="1246320"/>
                <a:ext cx="1584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Arial"/>
                  </a:rPr>
                  <a:t>Cold eddy bnd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 flipV="1">
                <a:off x="8105760" y="1050480"/>
                <a:ext cx="0" cy="401832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1"/>
              <p:cNvSpPr/>
              <p:nvPr/>
            </p:nvSpPr>
            <p:spPr>
              <a:xfrm rot="16200000">
                <a:off x="7535880" y="228636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Arial"/>
                  </a:rPr>
                  <a:t>Landf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433120" y="3035880"/>
                <a:ext cx="353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2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47640" y="3035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659280" y="3035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2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338600" y="3035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2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49160" y="3035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560800" y="3035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ＭＳ Ｐゴシック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5393520" y="2874960"/>
              <a:ext cx="412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 Bold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03360" y="2874960"/>
              <a:ext cx="412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 Bold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97720" y="2874960"/>
              <a:ext cx="457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 Bold"/>
                </a:rPr>
                <a:t>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98640" y="2874960"/>
              <a:ext cx="412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 Bold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93000" y="2874960"/>
              <a:ext cx="457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 Bold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78080" y="2854440"/>
              <a:ext cx="412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 Bold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86560" y="771480"/>
            <a:ext cx="45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ean Heat Content (KJ 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0000 UTC 25 A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1015920"/>
            <a:ext cx="5111280" cy="5596920"/>
            <a:chOff x="0" y="1015920"/>
            <a:chExt cx="5111280" cy="5596920"/>
          </a:xfrm>
        </p:grpSpPr>
        <p:grpSp>
          <p:nvGrpSpPr>
            <p:cNvPr id="80" name=""/>
            <p:cNvGrpSpPr/>
            <p:nvPr/>
          </p:nvGrpSpPr>
          <p:grpSpPr>
            <a:xfrm>
              <a:off x="0" y="1015920"/>
              <a:ext cx="5111280" cy="5149800"/>
              <a:chOff x="0" y="1015920"/>
              <a:chExt cx="5111280" cy="514980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0" y="1015920"/>
                <a:ext cx="5111280" cy="5149800"/>
                <a:chOff x="0" y="1015920"/>
                <a:chExt cx="5111280" cy="514980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0" y="1015920"/>
                  <a:ext cx="5111280" cy="5149800"/>
                  <a:chOff x="0" y="1015920"/>
                  <a:chExt cx="5111280" cy="5149800"/>
                </a:xfrm>
              </p:grpSpPr>
              <p:pic>
                <p:nvPicPr>
                  <p:cNvPr id="8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1160" y="1024560"/>
                    <a:ext cx="5100120" cy="514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15920"/>
                    <a:ext cx="51087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047240"/>
                  <a:ext cx="5108760" cy="5118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6" name=""/>
              <p:cNvSpPr/>
              <p:nvPr/>
            </p:nvSpPr>
            <p:spPr>
              <a:xfrm>
                <a:off x="2987640" y="2097000"/>
                <a:ext cx="0" cy="3384720"/>
              </a:xfrm>
              <a:prstGeom prst="line">
                <a:avLst/>
              </a:prstGeom>
              <a:ln w="34920">
                <a:solidFill>
                  <a:srgbClr val="cb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56000" y="2023920"/>
                <a:ext cx="0" cy="349272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V="1">
              <a:off x="2951280" y="3141360"/>
              <a:ext cx="7308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055600" y="421812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ddy Bound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3192840" y="4588920"/>
              <a:ext cx="90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Landf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3120" y="6021360"/>
              <a:ext cx="3796920" cy="337320"/>
              <a:chOff x="843120" y="6021360"/>
              <a:chExt cx="3796920" cy="337320"/>
            </a:xfrm>
          </p:grpSpPr>
          <p:sp>
            <p:nvSpPr>
              <p:cNvPr id="92" name=""/>
              <p:cNvSpPr/>
              <p:nvPr/>
            </p:nvSpPr>
            <p:spPr>
              <a:xfrm>
                <a:off x="843120" y="602136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19480" y="602136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9120" y="602136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00560" y="602136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75120" y="602136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16560" y="602136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27840" y="602136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220120" y="6275520"/>
              <a:ext cx="12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pt, 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560" y="1015920"/>
              <a:ext cx="3065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TWC BT- blue dotted 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IMSS SATCON, AMSU- black sol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- open diamo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564000" y="3249720"/>
              <a:ext cx="36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498920" y="1052640"/>
            <a:ext cx="4681440" cy="5522040"/>
            <a:chOff x="4498920" y="1052640"/>
            <a:chExt cx="4681440" cy="5522040"/>
          </a:xfrm>
        </p:grpSpPr>
        <p:sp>
          <p:nvSpPr>
            <p:cNvPr id="103" name=""/>
            <p:cNvSpPr/>
            <p:nvPr/>
          </p:nvSpPr>
          <p:spPr>
            <a:xfrm>
              <a:off x="7488360" y="2060640"/>
              <a:ext cx="0" cy="3384360"/>
            </a:xfrm>
            <a:prstGeom prst="line">
              <a:avLst/>
            </a:prstGeom>
            <a:ln w="34920">
              <a:solidFill>
                <a:srgbClr val="cb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85080" y="2060640"/>
              <a:ext cx="0" cy="33843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4"/>
            <a:srcRect l="0" t="0" r="7118" b="0"/>
            <a:stretch/>
          </p:blipFill>
          <p:spPr>
            <a:xfrm>
              <a:off x="4498920" y="1052640"/>
              <a:ext cx="4681440" cy="507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4500720" y="1052640"/>
              <a:ext cx="4679640" cy="5522040"/>
              <a:chOff x="4500720" y="1052640"/>
              <a:chExt cx="4679640" cy="55220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5"/>
              <a:srcRect l="0" t="0" r="7150" b="0"/>
              <a:stretch/>
            </p:blipFill>
            <p:spPr>
              <a:xfrm>
                <a:off x="4500720" y="1052640"/>
                <a:ext cx="4679640" cy="507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6"/>
              <a:srcRect l="0" t="0" r="7150" b="0"/>
              <a:stretch/>
            </p:blipFill>
            <p:spPr>
              <a:xfrm>
                <a:off x="4500720" y="1052640"/>
                <a:ext cx="4679640" cy="507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16200000">
                <a:off x="6555960" y="2886480"/>
                <a:ext cx="152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Eddy Bounda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6200000">
                <a:off x="7585560" y="2572920"/>
                <a:ext cx="90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Landf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0880" y="598500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07240" y="598500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47240" y="598500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88320" y="598500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63240" y="598500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104320" y="598500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715600" y="598500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39560" y="6237360"/>
                <a:ext cx="120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Sept, 20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1413000" y="355680"/>
            <a:ext cx="5833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101"/>
                </a:solidFill>
                <a:latin typeface="Arial"/>
              </a:rPr>
              <a:t>Observations of Min SLP and Max Wi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76360" y="5192640"/>
            <a:ext cx="795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re are uncertainties regarding the true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AMPS-TC agrees better with the JMA and SFMR relationshi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 coupled run reduces the model data scat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13000" y="355680"/>
            <a:ext cx="5833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101"/>
                </a:solidFill>
                <a:latin typeface="Arial"/>
              </a:rPr>
              <a:t>Max. Wind Speed</a:t>
            </a:r>
            <a:r>
              <a:rPr b="1" lang="en-US" sz="2000" spc="-1" strike="noStrike">
                <a:solidFill>
                  <a:srgbClr val="cb0101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cb0101"/>
                </a:solidFill>
                <a:latin typeface="Arial"/>
              </a:rPr>
              <a:t>Min. Pressure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30240" y="1262160"/>
            <a:ext cx="4322880" cy="3305160"/>
            <a:chOff x="1830240" y="1262160"/>
            <a:chExt cx="4322880" cy="33051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rcRect l="50005" t="6667" r="7500" b="50007"/>
            <a:stretch/>
          </p:blipFill>
          <p:spPr>
            <a:xfrm>
              <a:off x="1830240" y="1262160"/>
              <a:ext cx="4322880" cy="330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4173480" y="1441440"/>
              <a:ext cx="1800000" cy="500760"/>
              <a:chOff x="4173480" y="1441440"/>
              <a:chExt cx="1800000" cy="500760"/>
            </a:xfrm>
          </p:grpSpPr>
          <p:sp>
            <p:nvSpPr>
              <p:cNvPr id="125" name=""/>
              <p:cNvSpPr/>
              <p:nvPr/>
            </p:nvSpPr>
            <p:spPr>
              <a:xfrm>
                <a:off x="4173480" y="1513080"/>
                <a:ext cx="108000" cy="10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54200" y="1728720"/>
                <a:ext cx="721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FM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73480" y="176544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54200" y="1441440"/>
                <a:ext cx="1619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ircraft dropson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622600" y="2665440"/>
              <a:ext cx="140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Jangmi (200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22960" y="2089080"/>
              <a:ext cx="107640" cy="10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65520" y="2017800"/>
              <a:ext cx="1081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JMA (Mod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537160" y="25495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TWC: Atkinson and Holliday (1977) b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981000"/>
            <a:ext cx="4831920" cy="5608440"/>
            <a:chOff x="0" y="981000"/>
            <a:chExt cx="4831920" cy="5608440"/>
          </a:xfrm>
        </p:grpSpPr>
        <p:grpSp>
          <p:nvGrpSpPr>
            <p:cNvPr id="134" name=""/>
            <p:cNvGrpSpPr/>
            <p:nvPr/>
          </p:nvGrpSpPr>
          <p:grpSpPr>
            <a:xfrm>
              <a:off x="0" y="981000"/>
              <a:ext cx="4831920" cy="5608440"/>
              <a:chOff x="0" y="981000"/>
              <a:chExt cx="4831920" cy="5608440"/>
            </a:xfrm>
          </p:grpSpPr>
          <p:sp>
            <p:nvSpPr>
              <p:cNvPr id="135" name=""/>
              <p:cNvSpPr/>
              <p:nvPr/>
            </p:nvSpPr>
            <p:spPr>
              <a:xfrm>
                <a:off x="2499120" y="3465360"/>
                <a:ext cx="20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 Bold"/>
                  </a:rPr>
                  <a:t>27 Sept 18 GM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5560" y="3465360"/>
                <a:ext cx="20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 Bold"/>
                  </a:rPr>
                  <a:t>27 Sept 21 GM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1"/>
              <a:srcRect l="25692" t="30263" r="0" b="0"/>
              <a:stretch/>
            </p:blipFill>
            <p:spPr>
              <a:xfrm>
                <a:off x="2423880" y="1204920"/>
                <a:ext cx="2408040" cy="22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rcRect l="26307" t="30263" r="0" b="0"/>
              <a:stretch/>
            </p:blipFill>
            <p:spPr>
              <a:xfrm>
                <a:off x="214200" y="1157040"/>
                <a:ext cx="2437920" cy="230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466560" y="981000"/>
                <a:ext cx="38016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 Bold"/>
                  </a:rPr>
                  <a:t>Taiwan multi-radar Composi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" name="" descr=""/>
              <p:cNvPicPr/>
              <p:nvPr/>
            </p:nvPicPr>
            <p:blipFill>
              <a:blip r:embed="rId3"/>
              <a:srcRect l="16963" t="7910" r="20042" b="5580"/>
              <a:stretch/>
            </p:blipFill>
            <p:spPr>
              <a:xfrm>
                <a:off x="2279520" y="4074840"/>
                <a:ext cx="237132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4"/>
              <a:srcRect l="14538" t="7910" r="20042" b="4246"/>
              <a:stretch/>
            </p:blipFill>
            <p:spPr>
              <a:xfrm>
                <a:off x="0" y="4074840"/>
                <a:ext cx="242388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934920" y="3922560"/>
                <a:ext cx="29772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 Bold"/>
                  </a:rPr>
                  <a:t>COAMPS-TC Uncoupl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1479600">
              <a:off x="1187280" y="1808280"/>
              <a:ext cx="216000" cy="50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479600">
              <a:off x="3492360" y="1844640"/>
              <a:ext cx="216000" cy="50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48600" y="1832040"/>
              <a:ext cx="977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99"/>
                  </a:solidFill>
                  <a:latin typeface="Tahoma"/>
                  <a:ea typeface="Tahoma"/>
                </a:rPr>
                <a:t>Dry Sl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86280" y="5711760"/>
              <a:ext cx="146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99"/>
                  </a:solidFill>
                  <a:latin typeface="Tahoma Bold"/>
                </a:rPr>
                <a:t>No Dry S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43280" y="2023920"/>
              <a:ext cx="64764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403280" y="206064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237200" y="1052640"/>
            <a:ext cx="4906440" cy="5612760"/>
            <a:chOff x="4237200" y="1052640"/>
            <a:chExt cx="4906440" cy="5612760"/>
          </a:xfrm>
        </p:grpSpPr>
        <p:grpSp>
          <p:nvGrpSpPr>
            <p:cNvPr id="150" name=""/>
            <p:cNvGrpSpPr/>
            <p:nvPr/>
          </p:nvGrpSpPr>
          <p:grpSpPr>
            <a:xfrm>
              <a:off x="4237200" y="1052640"/>
              <a:ext cx="4906440" cy="5612760"/>
              <a:chOff x="4237200" y="1052640"/>
              <a:chExt cx="4906440" cy="5612760"/>
            </a:xfrm>
          </p:grpSpPr>
          <p:sp>
            <p:nvSpPr>
              <p:cNvPr id="151" name=""/>
              <p:cNvSpPr/>
              <p:nvPr/>
            </p:nvSpPr>
            <p:spPr>
              <a:xfrm>
                <a:off x="6810840" y="3465360"/>
                <a:ext cx="20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 Bold"/>
                  </a:rPr>
                  <a:t>27 Sept 18 GM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07280" y="3465360"/>
                <a:ext cx="20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 Bold"/>
                  </a:rPr>
                  <a:t>27 Sept 21 GM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" descr=""/>
              <p:cNvPicPr/>
              <p:nvPr/>
            </p:nvPicPr>
            <p:blipFill>
              <a:blip r:embed="rId5"/>
              <a:srcRect l="25692" t="30263" r="0" b="0"/>
              <a:stretch/>
            </p:blipFill>
            <p:spPr>
              <a:xfrm>
                <a:off x="6735600" y="1204920"/>
                <a:ext cx="2408040" cy="22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6"/>
              <a:srcRect l="26307" t="30263" r="0" b="0"/>
              <a:stretch/>
            </p:blipFill>
            <p:spPr>
              <a:xfrm>
                <a:off x="4525920" y="1157040"/>
                <a:ext cx="2437920" cy="23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4741560" y="1052640"/>
                <a:ext cx="38016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 Bold"/>
                  </a:rPr>
                  <a:t>Taiwan multi-radar Composi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" descr=""/>
              <p:cNvPicPr/>
              <p:nvPr/>
            </p:nvPicPr>
            <p:blipFill>
              <a:blip r:embed="rId7"/>
              <a:srcRect l="17011" t="7541" r="17369" b="4326"/>
              <a:stretch/>
            </p:blipFill>
            <p:spPr>
              <a:xfrm>
                <a:off x="6510240" y="4074840"/>
                <a:ext cx="2496600" cy="25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8"/>
              <a:srcRect l="14582" t="7541" r="19798" b="4326"/>
              <a:stretch/>
            </p:blipFill>
            <p:spPr>
              <a:xfrm>
                <a:off x="4237200" y="4074840"/>
                <a:ext cx="2498400" cy="25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398200" y="3922560"/>
                <a:ext cx="26740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 Bold"/>
                  </a:rPr>
                  <a:t>COAMPS-TC Coupl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rot="1479600">
              <a:off x="5472000" y="1808280"/>
              <a:ext cx="216000" cy="50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479600">
              <a:off x="7775640" y="1916280"/>
              <a:ext cx="216000" cy="50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3188400">
              <a:off x="5397840" y="4515120"/>
              <a:ext cx="179640" cy="50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4666200">
              <a:off x="7830000" y="4526640"/>
              <a:ext cx="179640" cy="504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15040" y="5877000"/>
              <a:ext cx="15951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99"/>
                  </a:solidFill>
                  <a:latin typeface="Tahoma Bold"/>
                </a:rPr>
                <a:t>Weak Dry Sl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69680" y="1881360"/>
              <a:ext cx="977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99"/>
                  </a:solidFill>
                  <a:latin typeface="Tahoma Bold"/>
                </a:rPr>
                <a:t>Dry Sl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28000" y="2060640"/>
              <a:ext cx="64764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687640" y="206064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413000" y="355680"/>
            <a:ext cx="5833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101"/>
                </a:solidFill>
                <a:latin typeface="Arial"/>
              </a:rPr>
              <a:t>Rainband Structure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3:56:16Z</dcterms:created>
  <dc:creator>Dr. Yi Jin</dc:creator>
  <dc:description/>
  <dc:language>en-US</dc:language>
  <cp:lastModifiedBy>gopal</cp:lastModifiedBy>
  <dcterms:modified xsi:type="dcterms:W3CDTF">2010-04-14T02:58:00Z</dcterms:modified>
  <cp:revision>68</cp:revision>
  <dc:subject/>
  <dc:title>Jangmi Forecasts with TCDI Initialization</dc:title>
</cp:coreProperties>
</file>